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401652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200240" y="70308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890388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4016520" y="890388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A413303-4D4C-4142-9DCE-9C4E5E5F9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EF4B8F3-2E6F-45B7-B920-441E3A114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57320" y="4371480"/>
            <a:ext cx="677376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F1E4AF4-9656-46D8-8F10-29CAE8684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93E4A2E-14E7-41EB-9A73-C1108DD7C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6E47856-CF8B-4E3E-8A47-7312F2307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5B54C7F-55C8-4B07-B15E-E567BF7C4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EEC4B18-3690-4699-947E-0D3B44B21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C48CF53-A9E9-41FC-9230-54B214BC5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EB75F10-B5B8-4061-BB28-7BC4AE175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21AB-4C53-4AE5-BB83-5BE53D6C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275-6F61-4972-9869-AFCB6A82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B470-2F78-4D92-98A4-94AF2BEE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B30F-6C18-49D8-816B-2FE988AA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A1D8-6C9B-4DED-9831-83595300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DAFC-DEA7-45FD-BFD8-D1A13538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F50E-AF44-429C-B824-B9B84D33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AB83-C1C3-41E2-9753-3C51634E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1969-FC6C-4AD7-BF2F-79865084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D938-A876-4ACA-84BD-90A323A0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8D01-BDB9-4DE0-9EA3-2773E43E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DA8-30F7-4444-AAD6-1B38ED80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7AFB-B97C-46BB-900D-30CFCD31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D15F-D6AD-4B31-B57B-81B3D2C2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7911-BD99-4620-91F8-786F4E76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6D77-CBFE-4123-B329-50995951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4690-86F7-47F1-8DBA-6F54E9CF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FEA4D-7E03-4196-BFB2-C2EFEA53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25262-5D3E-4042-A423-A66CFEAF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5A3C3-D168-4D0A-8768-FD68E268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A053C-9782-47EB-8082-12E78A65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61952-9882-491E-A246-0B69DD8A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CEC0-61B6-4C57-83AF-012AA0EE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DAAF4-32E9-4DD6-B13D-8B808A1A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29E5B-AD83-4A6C-AD2C-831D6E26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EC155-2FE0-4EE7-BCEA-B1D28F07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F83FA-C238-4FC8-8981-B383EAA5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297EA-BC3C-401A-BB56-0736480E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C6D39-BF5C-4717-8032-875377CD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0DEDF-712C-43A2-ADBB-E6969EEB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1FFD4-669E-43E5-A781-CB6908FD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7BC5B-1A99-4CF1-A502-D1614E64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8CB0F-3BEE-4C73-A6EE-AACCE453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8F0E-0DBE-4C6E-BCE7-A7130C36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8D253-DCC0-4A5C-AC20-553E3E08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C1B16-C040-4810-B015-B0AB1F8C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E81EC-D45F-4229-BAA6-C3F9514D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1F1F0-AF9A-4217-836D-B57C5F13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8E845-0AA4-42FB-8104-E4571708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85FD5-12B7-4A39-8342-DB703D69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83BF0-58DE-4462-A862-8977712E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131B3-6F7F-4223-B76F-44FBF908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EDF3D-8FC4-446B-9432-EC488A82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AB5-66E0-427A-A763-4D2FFEF0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1893-5272-4AAF-A72C-493A48B0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9EC7-4945-49CC-8A99-51880FAD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4DD-A5ED-4D68-A36C-1F34220B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46A-2D91-4334-9D6D-F5EB71A0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E7A6-B15D-44CD-A667-CD2357607903}" type="slidenum">
              <a:rPr b="0" lang="en-US" sz="1200" spc="-1" strike="noStrike">
                <a:solidFill>
                  <a:srgbClr val="045c75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C917-8D1A-4F48-A5A2-CB42CB55B319}" type="slidenum">
              <a:rPr b="0" lang="en-US" sz="1200" spc="-1" strike="noStrike">
                <a:solidFill>
                  <a:srgbClr val="d1eaee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0DCF-57DE-47F6-8F41-C5CD6B3CB92C}" type="slidenum">
              <a:rPr b="0" lang="en-US" sz="1200" spc="-1" strike="noStrike">
                <a:solidFill>
                  <a:srgbClr val="d1eaee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7A5D-2A35-4D5E-81E8-579D092F2705}" type="slidenum">
              <a:rPr b="0" lang="en-US" sz="1200" spc="-1" strike="noStrike">
                <a:solidFill>
                  <a:srgbClr val="045c75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id-Term Presentation</a:t>
            </a:r>
            <a:br>
              <a:rPr sz="4900"/>
            </a:br>
            <a:r>
              <a:rPr b="1" lang="en-US" sz="55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How assisted reading</a:t>
            </a:r>
            <a:br>
              <a:rPr sz="5500"/>
            </a:br>
            <a:r>
              <a:rPr b="1" lang="en-US" sz="55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helps improve </a:t>
            </a:r>
            <a:br>
              <a:rPr sz="5500"/>
            </a:br>
            <a:r>
              <a:rPr b="1" lang="en-US" sz="55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reading fluency and comprehension </a:t>
            </a:r>
            <a:br>
              <a:rPr sz="4900"/>
            </a:b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" y="464832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ana Samoylov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SE 7201T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2016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ar in Applied Theory and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I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4" name="Picture 6" descr="Image result for assisted reading helps improve reading fluency and comprehension"/>
          <p:cNvPicPr/>
          <p:nvPr/>
        </p:nvPicPr>
        <p:blipFill>
          <a:blip r:embed="rId1"/>
          <a:stretch/>
        </p:blipFill>
        <p:spPr>
          <a:xfrm>
            <a:off x="5359320" y="3886200"/>
            <a:ext cx="3556080" cy="266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able of Contents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              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 of the Problem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of research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esis   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      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the Literature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   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8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Statement of Probl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Fluenc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is one of the defining characteristics of good readers and a lack of fluency is a common characteristic of poor readers as well as a reliable predictor of reading comprehension proble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udents of different ages and reading levels, especially English Language Learners (ELL) and students with learning disabilities have problems with fluency and reading comprehension of different text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urpose of research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5840" y="1676160"/>
            <a:ext cx="4876920" cy="35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By conducting this research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I want to measur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how the assisted reading approach affects fluency and reading comprehens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of  beginner readers or English Language Learner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3" descr="Image result for assisted reading"/>
          <p:cNvPicPr/>
          <p:nvPr/>
        </p:nvPicPr>
        <p:blipFill>
          <a:blip r:embed="rId1"/>
          <a:srcRect l="6159" t="0" r="15829" b="-1616"/>
          <a:stretch/>
        </p:blipFill>
        <p:spPr>
          <a:xfrm>
            <a:off x="598320" y="1371600"/>
            <a:ext cx="2982960" cy="259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5" name="Picture 5" descr="Image result for assisted reading"/>
          <p:cNvPicPr/>
          <p:nvPr/>
        </p:nvPicPr>
        <p:blipFill>
          <a:blip r:embed="rId2"/>
          <a:srcRect l="0" t="11430" r="7860" b="0"/>
          <a:stretch/>
        </p:blipFill>
        <p:spPr>
          <a:xfrm>
            <a:off x="380880" y="4038480"/>
            <a:ext cx="3353040" cy="241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Hypothesis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294920"/>
            <a:ext cx="8534160" cy="474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ssisted instruction given in form of the repeated out-loud reading or audio-assisted reading will improve both fluency and reading comprehension of a group of ELL students at the public schoo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u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ree times a week, for 35 minutes each session, over two month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o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 a mainstream classroom, at the local showcase public school in Brookly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udents (6 boys and 4 girls), age 9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ade, English Language Learners, no IEP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Variables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0880" y="1447560"/>
            <a:ext cx="8382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dependent 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ed instruction given in forms of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peated out-loud read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dio-assisted read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pendent Vari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effects of the intervention on reading fluency and comprehension that will be measured in form of the series of tes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easure initial abilities of student to read fluently and comprehend text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-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easure and modify the instruction if necessary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easure students' fluency and reading comprehension after interven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Review of Literature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190760" y="106668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ome limitations in this research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ther variables to consider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characteristics of student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ing and physical disabilities of student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time students spend at home practicing reading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interventions, etc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studies that suggests to conduct more research before making any generalization is called “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ing for generalization of oral reading fluency using computer-assisted instruction and changing fluency criteria” b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s, Cartledge, Gibson and Robinson-Ervin, 2016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04920" y="1086120"/>
            <a:ext cx="3886200" cy="50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Calibri"/>
              </a:rPr>
              <a:t>Pro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There are multiple studies that were conducted previously show: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ssisted reading together with repetition can improve not only fluency, but also reading comprehension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during the assisted reading sessions, a student works on a text, using visual as well as audio senses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One of the studies that supports my research was done by Rasinski and Young  and called “Assisted reading - a bridge from fluency to comprehension”, 2014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152280" y="491040"/>
            <a:ext cx="8763120" cy="60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References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rton-Arwood, S. M., Wehby, J. H., &amp; Falk, K. B. (2005). Reading instruction for elementary-age  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udents with emotional and behavioral disorders: academic and behavioral outcomes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xceptional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ildren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2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), 7-27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Dowhower, S. L. (1987). Effects of repeated reading on second-grade transitional readers’ fluency and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         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comprehension. </a:t>
            </a:r>
            <a:r>
              <a:rPr b="0" i="1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Reading Research Quarterly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, 389-406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steves, K. J., &amp; Whitten, E. (2011). Assisted reading with digital audio books for students with reading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sabilities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ding Horizo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1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), 21-40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Hapstak, J., &amp; Tracey, D. H. (2007). Effects of assisted-repeated reading on students of varying reading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bility: A single-subject experimental research study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ding Horizo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7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4), 315-33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Hudson, R. F., Lane, H. B., &amp; Pullen, P. C. (2005). Reading fluency assessment and instruction: What,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         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why, and how?. </a:t>
            </a:r>
            <a:r>
              <a:rPr b="0" i="1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The Reading Teacher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58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(8), 702-71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Keyes, S., Cartledge, G., Gibson Jr., L., &amp; Robinson-Ervin, P. (2016). Programming for generalization of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al reading fluency using computer-assisted instruction and changing fluency criteria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ducation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&amp; Treatment of Children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9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2), 141-172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asinski, T., &amp; Young, C. (2014). Assisted reading-a bridge from fluency to comprehension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w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gland Reading Association Journa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0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), 1-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evens, R. J. (2006). Developing reading fluency: What does the research say?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alyst For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ang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4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), 37-4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aguchi, E. t., Melhem, L. l., &amp; Kawaguchi, T. a. (2016). Assisted reading: a flexible approach to L2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ding fluency building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ding Matrix: An International Online Journa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6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), 106-118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Therrien, W. J. (2004). Fluency and comprehension gains as a result of repeated reading a meta-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          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analysis. </a:t>
            </a:r>
            <a:r>
              <a:rPr b="0" i="1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Remedial and special education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25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(4), 252-261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6T23:17:37Z</dcterms:created>
  <dc:creator>Molloy</dc:creator>
  <dc:description/>
  <dc:language>en-US</dc:language>
  <cp:lastModifiedBy>Windows User</cp:lastModifiedBy>
  <dcterms:modified xsi:type="dcterms:W3CDTF">2016-10-18T19:20:59Z</dcterms:modified>
  <cp:revision>103</cp:revision>
  <dc:subject/>
  <dc:title>Gender Paradigms &amp; Theories   What’s in the R2 ??</dc:title>
</cp:coreProperties>
</file>